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32000" y="6426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66"/>
                </a:solidFill>
                <a:latin typeface="Arial"/>
                <a:ea typeface="楷体_GB2312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  <a:ea typeface="楷体_GB2312"/>
              </a:rPr>
              <a:t>第二章　牛顿定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673680" y="647388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EAF8-F6EB-4ED5-8683-69793501B316}" type="slidenum">
              <a:rPr b="0" lang="zh-CN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42920" cy="6870240"/>
            <a:chOff x="0" y="0"/>
            <a:chExt cx="1042920" cy="687024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621720"/>
              <a:ext cx="611280" cy="624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42920" cy="105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"/>
          <p:cNvSpPr/>
          <p:nvPr/>
        </p:nvSpPr>
        <p:spPr>
          <a:xfrm>
            <a:off x="2979720" y="6381720"/>
            <a:ext cx="317664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36360" y="87480"/>
            <a:ext cx="900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楷体_GB2312"/>
              </a:rPr>
              <a:t>物理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楷体_GB2312"/>
              </a:rPr>
              <a:t>第五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58200" y="58672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2-1%20&#29275;&#39039;&#23450;&#24459;.ppt" TargetMode="External"/><Relationship Id="rId2" Type="http://schemas.openxmlformats.org/officeDocument/2006/relationships/hyperlink" Target="file:///2-2%20&#29289;&#29702;&#37327;&#30340;&#21333;&#20301;&#21644;&#37327;&#32434;.ppt" TargetMode="External"/><Relationship Id="rId3" Type="http://schemas.openxmlformats.org/officeDocument/2006/relationships/hyperlink" Target="file:///2-3%20&#20960;&#31181;&#24120;&#35265;&#30340;&#21147;.ppt" TargetMode="External"/><Relationship Id="rId4" Type="http://schemas.openxmlformats.org/officeDocument/2006/relationships/hyperlink" Target="file:///2-4%20&#29275;&#39039;&#23450;&#24459;&#30340;&#24212;&#29992;&#20030;&#20363;.ppt" TargetMode="External"/><Relationship Id="rId5" Type="http://schemas.openxmlformats.org/officeDocument/2006/relationships/image" Target="../media/image5.wmf"/><Relationship Id="rId6" Type="http://schemas.openxmlformats.org/officeDocument/2006/relationships/slide" Target="slide4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68360" y="1341360"/>
            <a:ext cx="48247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9900"/>
                </a:solidFill>
                <a:latin typeface="黑体"/>
                <a:ea typeface="黑体"/>
              </a:rPr>
              <a:t>第 二 章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03160" y="3097080"/>
            <a:ext cx="4057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900"/>
                </a:solidFill>
                <a:latin typeface="黑体"/>
                <a:ea typeface="黑体"/>
              </a:rPr>
              <a:t>牛 顿 定 律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996240" y="174600"/>
            <a:ext cx="167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本章目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32720" y="693720"/>
            <a:ext cx="204768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"/>
          </p:cNvPr>
          <p:cNvSpPr/>
          <p:nvPr/>
        </p:nvSpPr>
        <p:spPr>
          <a:xfrm>
            <a:off x="1547640" y="169704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　牛顿定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"/>
          </p:cNvPr>
          <p:cNvSpPr/>
          <p:nvPr/>
        </p:nvSpPr>
        <p:spPr>
          <a:xfrm>
            <a:off x="1547640" y="2344680"/>
            <a:ext cx="501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　物理量的单位和量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3"/>
          </p:cNvPr>
          <p:cNvSpPr/>
          <p:nvPr/>
        </p:nvSpPr>
        <p:spPr>
          <a:xfrm>
            <a:off x="1547640" y="2994120"/>
            <a:ext cx="387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　几种常见的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4"/>
          </p:cNvPr>
          <p:cNvSpPr/>
          <p:nvPr/>
        </p:nvSpPr>
        <p:spPr>
          <a:xfrm>
            <a:off x="1547640" y="364176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　牛顿定律的应用举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2698920" y="4803840"/>
            <a:ext cx="3457440" cy="157788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rId6" action="ppaction://hlinksldjump"/>
          </p:cNvPr>
          <p:cNvSpPr/>
          <p:nvPr/>
        </p:nvSpPr>
        <p:spPr>
          <a:xfrm>
            <a:off x="1547640" y="1049400"/>
            <a:ext cx="44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-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0</a:t>
            </a:r>
            <a:r>
              <a:rPr b="1" lang="en-US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教学基本要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38160" y="93600"/>
            <a:ext cx="900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楷体_GB2312"/>
              </a:rPr>
              <a:t>物理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楷体_GB2312"/>
              </a:rPr>
              <a:t>第五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28440" y="100080"/>
            <a:ext cx="900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楷体_GB2312"/>
              </a:rPr>
              <a:t>物理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楷体_GB2312"/>
              </a:rPr>
              <a:t>第五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47640" y="1413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000066"/>
                </a:solidFill>
                <a:latin typeface="Times New Roman"/>
                <a:ea typeface="楷体_GB2312"/>
              </a:rPr>
              <a:t>*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-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　非惯性系  惯性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3280" y="4011480"/>
            <a:ext cx="3457440" cy="1578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-28440" y="85680"/>
            <a:ext cx="900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楷体_GB2312"/>
              </a:rPr>
              <a:t>物理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楷体_GB2312"/>
              </a:rPr>
              <a:t>第五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00000" y="907920"/>
            <a:ext cx="7559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一  掌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牛顿定律的基本内容及其适用条件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2131920"/>
            <a:ext cx="7704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二  熟练掌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隔离体法分析物体的受力情况，能用微积分方法求解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变力作用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简单质点动力学问题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48360" y="620640"/>
            <a:ext cx="346392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11736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-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0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楷体_GB2312"/>
              </a:rPr>
              <a:t>教学基本要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3960720"/>
            <a:ext cx="7704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三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理解惯性系与非惯性系的概念，了解惯性力的概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458200" y="58672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8602560" y="5978520"/>
            <a:ext cx="327240" cy="24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END</a:t>
            </a:r>
            <a:endParaRPr b="0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000066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张薇</dc:creator>
  <dc:description/>
  <dc:language>en-US</dc:language>
  <cp:lastModifiedBy>X</cp:lastModifiedBy>
  <dcterms:modified xsi:type="dcterms:W3CDTF">2004-05-31T01:12:48Z</dcterms:modified>
  <cp:revision>27</cp:revision>
  <dc:subject/>
  <dc:title>2-0 教学基本要求</dc:title>
</cp:coreProperties>
</file>